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950-57F2-4EA1-95CB-2C2F76C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512-5F50-4C91-AF8A-129D460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592-AB2E-4C94-960A-373F258A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22F-1543-473B-9517-D1666069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784-3532-42EB-BB71-3D401DE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E50-5489-4112-BD35-4359E74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4E4-7279-4CFB-9463-1212863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61C-418A-4673-A83F-B3C7DC0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05F-D4EA-4DFE-8141-C330108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95F-9AD5-431F-BC8B-6ECDCC5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721-98CC-449E-BDC0-DB50434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930-48A8-4C38-91CE-CB6D1EB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7EC-142E-4E23-87FE-4B992345B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60280"/>
            <a:ext cx="459432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Unit 7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hat's the highest mountain 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in the world?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0820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3068640"/>
            <a:ext cx="2041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Section B 1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a-1d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771640" y="112536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ummar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3920" y="2565360"/>
            <a:ext cx="7022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…cm taller/shorte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uch /even/a little/less 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较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88840" y="2995560"/>
            <a:ext cx="70358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Make sentences to tell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Pan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Preview: Make a list about h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to save pan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19280" y="907920"/>
            <a:ext cx="5184720" cy="1887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things using compar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 students’ listening ski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92120" y="1339920"/>
            <a:ext cx="7067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cc"/>
                </a:solidFill>
                <a:latin typeface="Arial"/>
              </a:rPr>
              <a:t>Compare facts about these two animals. Use the language in the box to help you make sentenc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84280"/>
            <a:ext cx="72072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3584520"/>
            <a:ext cx="39960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350 cm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s 5,000 k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ts 150 kilos of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d a day  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38160" y="3800520"/>
            <a:ext cx="348948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45080" y="40464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2040" y="404640"/>
            <a:ext cx="5184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Pand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150 cm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tanding on two le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s 100 k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ts 10 kilos of food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429000"/>
            <a:ext cx="856908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000"/>
                </a:solidFill>
                <a:latin typeface="Times New Roman"/>
              </a:rPr>
              <a:t>Example sentenc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s elephant weighs many times more than this pand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200 cm taller/shorter, weigh much more/less, eat much more/less, eat many times mor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76760" y="453960"/>
            <a:ext cx="3243240" cy="2675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1763640"/>
            <a:ext cx="76532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isten and check(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  <a:ea typeface="Arial"/>
              </a:rPr>
              <a:t>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) th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you h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3280" y="692280"/>
            <a:ext cx="338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Listen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3645000"/>
            <a:ext cx="7632720" cy="223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              16            20            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0              0.1           0.2            150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40400" y="4948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6160" y="3867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40760" y="4941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9840" y="4948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69120" y="3867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989000"/>
            <a:ext cx="647640" cy="6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38560" y="2637000"/>
            <a:ext cx="79380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3080" y="76500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6520" y="549360"/>
            <a:ext cx="6730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isten again and complet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entences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78200"/>
            <a:ext cx="82440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At birth, a baby panda is about ___ to ___ kilos.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At birth, a baby panda is about ___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m long.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A baby panda is not black. It is ____ and it has no 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 A panda can live up to ___ to ___ yea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9840" y="2050920"/>
            <a:ext cx="72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0.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4400" y="2665440"/>
            <a:ext cx="72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0.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4760" y="3241800"/>
            <a:ext cx="61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2880" y="4427640"/>
            <a:ext cx="101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pin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85960" y="5041800"/>
            <a:ext cx="1090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tee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89120" y="5618160"/>
            <a:ext cx="61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3120" y="5618160"/>
            <a:ext cx="61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765000"/>
            <a:ext cx="719280" cy="72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88000" y="1293840"/>
            <a:ext cx="792000" cy="766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3440" y="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4640" y="1908000"/>
            <a:ext cx="7731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ake turns telling your classm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about pan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03640" y="549360"/>
            <a:ext cx="2808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ractic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8000" y="3429000"/>
            <a:ext cx="67996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baby panda cannot 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 adult panda weighs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s more than a baby pa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131920"/>
            <a:ext cx="647640" cy="6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6520" y="90792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88480" y="1267920"/>
            <a:ext cx="7355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re are some facts about koala, use the information above to mak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03640" y="476280"/>
            <a:ext cx="26636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Discussion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479760" cy="278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0360" y="3357720"/>
            <a:ext cx="435600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75 cm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s 10 k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ts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eeps 20 hour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1:12:35Z</dcterms:created>
  <dc:creator>Administrator</dc:creator>
  <dc:description/>
  <dc:language>en-US</dc:language>
  <cp:lastModifiedBy/>
  <dcterms:modified xsi:type="dcterms:W3CDTF">2015-04-06T09:16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